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7077075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7077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85480" y="706320"/>
            <a:ext cx="4707000" cy="353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0" y="894528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4008240" y="894528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DD4010D-BC35-4289-9C46-7862DFBB0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11F90A2-9F6E-476A-98D9-3A187A868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75BFF15-A048-4AC2-9BA4-9F97B604D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B0D13AF-D6D0-4B97-BD61-73913E256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C4F23B0B-0342-4FD6-B2ED-CFB34D436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EB4FDB8-AACB-4789-B1CE-E91CDAB1D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546224F-2AF8-4257-8503-8B15D35C5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5005-4A20-4545-AC9F-2E2927A7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1A11-16A3-4671-9DDE-33A6B00D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4A1-C03B-4C3E-ADD6-BA1D6F46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811-E5F3-4B22-B1A8-4CEAC7CE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3626-6B0F-4008-B65B-2A0F6F44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2DAF-54D5-4961-A4B6-6646603A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BD83-0220-40C0-BBBF-B0E0C2BC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CECC-7D6F-4470-A2F6-04B0F8BE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9860-C926-49FE-B61D-6C87A8CE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A9E4-86A2-49A2-9847-614B8075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FAD6-C531-4CD6-A6E9-E58A0096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71C-5D38-4FE6-BC89-A165BA1B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037B-91C1-4BA2-83D9-08943AC7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8D67-3D87-40AE-AF0E-82E910CD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8DF0-83DF-4E11-AFE4-F7AB6C1B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6551-C55C-4377-9E44-4552ECAC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0DDA-F1C5-4EF2-8BD7-EEDBBA38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D5AFF-F900-40A9-BFFF-75856D17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824F4-2417-406B-9245-057D504C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B092C-DC6B-469E-AC9B-45944B3D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669C6-1CBC-4FDC-81A5-AC3FFCD4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F4AC8-13EE-4B2C-BEC8-0943FA96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EEA-925A-4847-87FE-250CD796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300B2-C0CA-41E5-A1F9-9F3E5A1C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4395F-DA0B-4535-B196-D8A65842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2AF1B-85DD-442D-8903-6A51264E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8D212-9FE0-40E7-BDEA-79C2F034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AAAB3-5C88-4E7C-B3A7-5ABC115F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AFF95-A166-4022-B8F9-BFDB1B4F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247F1-D481-4100-93D6-5FADA138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17DCC-A34D-4C55-BDD4-E07A10CD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18192-C5D5-4A2C-915D-C3F8B458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6A51A-75AB-4EB2-A3FA-367328C9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DADD-08F7-41D8-8995-CE9EC6F1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3F04A-54C3-44B3-99ED-EC58A879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BDB37-51F5-4336-B135-43AF2960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0E3F1-8E63-487C-A8A2-647AE56F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8DF03-2AF6-4687-84B4-FE97DFC5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33E2F-2730-4A4C-ACD6-2F884360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A0F42-5EFE-48E5-A8C4-D957C5A8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2F8C4-54AF-4796-B564-D94D814B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1B54B-8D46-48C8-BB5D-E109B45B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EC4DE-F369-4F2F-A41C-FEA40D57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61112-6557-4547-BFA6-2FB9888E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B66-A891-4D02-BC4B-8BF9D897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4001B-EE55-4961-80FB-10E772C2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69F84-D564-4CFD-BC05-469B1A09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F4F4F-6B97-43C6-ABEE-C50490E5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28DFF-5412-4683-864C-A9102425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EF4CA-5A70-405F-8C5C-36BE24A0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C9276-8BD5-482F-BF3E-CA171F73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5CA17-570E-4E9B-BEC5-304D059C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76613-9EF0-4896-BAD8-8C718FCE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C59CE-7823-4543-9DB0-ED08404A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4466F-14EC-48F8-9B93-5B975190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52F-17BA-4C0F-9639-AF240EEF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56F7E-5A6E-44A0-9D37-1B68D080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02B1C-1969-4EB7-B82F-794CB0C6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6F975-2A74-4A0A-952A-A1A8D3FC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D7BB6-353E-48CF-BB4B-2CD4B900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88185-33C1-4A9E-A6A1-E88C35CD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5912F-1338-4372-8A11-05B7D403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426F8-6D92-40F0-898A-DC9F8C22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01B5B-1593-4BB6-9C15-56590750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14DA5-3919-42EB-8EB9-852B3932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7AEF2-729B-439E-8563-BAE71CC4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2DA-7AA0-471E-9486-3FF00199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BA78C-9553-430E-B270-9E302CB2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88D38-58C9-4DBD-8689-BD7C3E26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F5448-1727-40CD-B3AB-81893F65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71E4E-9402-4E63-94DB-D99685EE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465A2-6CFD-4150-81E2-0FF34C69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FC99C-A6CA-4DAF-A3CD-6C872816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90E59-0EA3-443C-9918-4CF03A37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0BFC5-3B5A-4E7F-A7DE-6B968A68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34CA2-206E-4251-8A78-932F0E9D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A41A5-96A3-4CF3-B850-96C6FF9A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3BA3-2EFE-4824-8FAF-0078C15B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58D0A-D3CE-4C20-B28B-B51CFF0A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81725-1A22-4114-B352-01850D4F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7083B-B7E0-4072-A879-2400EDF4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732D8-0B65-427D-9905-F7E1B510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83A77-D9D0-488D-BC00-FF1CA50E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4FC59-FC37-4DAC-9041-767FC427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0233C-8A35-4B85-A1B4-A947D9E5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E4B4D-D561-478D-8E2F-69635173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A524B-E212-4FF9-ACFF-47D2709A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5BD8B-7B27-49E4-81F5-711A9F6D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3DC5-6547-4C81-9301-9502A23F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979CD-7BE0-4034-A0FD-5D86E643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585FA-9085-4C60-91CC-9F32DCB2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EE816-0840-4F8B-8F5F-8A767F43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5F9B7-0575-4FC7-B614-7C450C3A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8BE02-8BCD-4A00-BAAE-315B36C0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7B3C2-DB40-4E6E-B038-1539CE22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9AF3B-F511-495B-95A5-8E2319B0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8C56-CA4C-4261-9E5E-34B713ED2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0CAB-E933-4117-AD95-A4E340747F1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D776-533E-45A7-BC5F-3F7DF9B41B5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4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590E-D9BF-4671-82C5-87682DCED75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3569-E760-4640-A89D-A5DEFCB6EDE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1EDD-A4B4-47E2-BB9A-E40269425BE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9874-2491-4106-8BD9-034019AE220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14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9E93-0A81-403B-ADAF-0965C8E91D7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3880" y="106668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ots List #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95280" y="411480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           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nior Vocabul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nte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efore; in front of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tecede/ anteced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temeridi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teroo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tebellu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temorte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6" descr="anteroom.jpg"/>
          <p:cNvPicPr/>
          <p:nvPr/>
        </p:nvPicPr>
        <p:blipFill>
          <a:blip r:embed="rId2"/>
          <a:stretch/>
        </p:blipFill>
        <p:spPr>
          <a:xfrm>
            <a:off x="1219320" y="3276720"/>
            <a:ext cx="3047760" cy="2361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antemeridian.jpg"/>
          <p:cNvPicPr/>
          <p:nvPr/>
        </p:nvPicPr>
        <p:blipFill>
          <a:blip r:embed="rId3"/>
          <a:stretch/>
        </p:blipFill>
        <p:spPr>
          <a:xfrm>
            <a:off x="6172200" y="4191120"/>
            <a:ext cx="2362320" cy="193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qu, Aqua, Aq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a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quariu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qualu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quedu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quamari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quapla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6" name="Picture 6" descr="aqualung.jpg"/>
          <p:cNvPicPr/>
          <p:nvPr/>
        </p:nvPicPr>
        <p:blipFill>
          <a:blip r:embed="rId2"/>
          <a:stretch/>
        </p:blipFill>
        <p:spPr>
          <a:xfrm>
            <a:off x="7162920" y="15228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aquamarine.jpg"/>
          <p:cNvPicPr/>
          <p:nvPr/>
        </p:nvPicPr>
        <p:blipFill>
          <a:blip r:embed="rId3"/>
          <a:stretch/>
        </p:blipFill>
        <p:spPr>
          <a:xfrm>
            <a:off x="7238880" y="3124080"/>
            <a:ext cx="1714680" cy="1524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aquaplane.jpg"/>
          <p:cNvPicPr/>
          <p:nvPr/>
        </p:nvPicPr>
        <p:blipFill>
          <a:blip r:embed="rId4"/>
          <a:stretch/>
        </p:blipFill>
        <p:spPr>
          <a:xfrm>
            <a:off x="1143000" y="4724280"/>
            <a:ext cx="2743200" cy="1695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aquariumm.jpg"/>
          <p:cNvPicPr/>
          <p:nvPr/>
        </p:nvPicPr>
        <p:blipFill>
          <a:blip r:embed="rId5"/>
          <a:stretch/>
        </p:blipFill>
        <p:spPr>
          <a:xfrm>
            <a:off x="2057400" y="27432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" descr="aqueduct.jpg"/>
          <p:cNvPicPr/>
          <p:nvPr/>
        </p:nvPicPr>
        <p:blipFill>
          <a:blip r:embed="rId6"/>
          <a:stretch/>
        </p:blipFill>
        <p:spPr>
          <a:xfrm>
            <a:off x="6400800" y="487692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4991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-arium, -ary, -ery, orium, -ory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ce of or for; belonging to or connected with; of the natu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lariu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ditoriu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ortua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errariu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empora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bra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anatarium (arium= place of or for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avato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via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4" name="Picture 6" descr="solariumm.jpg"/>
          <p:cNvPicPr/>
          <p:nvPr/>
        </p:nvPicPr>
        <p:blipFill>
          <a:blip r:embed="rId2"/>
          <a:stretch/>
        </p:blipFill>
        <p:spPr>
          <a:xfrm>
            <a:off x="457200" y="46483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terrariumm.jpg"/>
          <p:cNvPicPr/>
          <p:nvPr/>
        </p:nvPicPr>
        <p:blipFill>
          <a:blip r:embed="rId3"/>
          <a:stretch/>
        </p:blipFill>
        <p:spPr>
          <a:xfrm>
            <a:off x="7162920" y="502920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terrarium.jpg"/>
          <p:cNvPicPr/>
          <p:nvPr/>
        </p:nvPicPr>
        <p:blipFill>
          <a:blip r:embed="rId4"/>
          <a:stretch/>
        </p:blipFill>
        <p:spPr>
          <a:xfrm>
            <a:off x="7648560" y="2743200"/>
            <a:ext cx="1495440" cy="1600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solarium.jpg"/>
          <p:cNvPicPr/>
          <p:nvPr/>
        </p:nvPicPr>
        <p:blipFill>
          <a:blip r:embed="rId5"/>
          <a:stretch/>
        </p:blipFill>
        <p:spPr>
          <a:xfrm>
            <a:off x="3200400" y="5486400"/>
            <a:ext cx="1638360" cy="13716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library.jpg"/>
          <p:cNvPicPr/>
          <p:nvPr/>
        </p:nvPicPr>
        <p:blipFill>
          <a:blip r:embed="rId6"/>
          <a:stretch/>
        </p:blipFill>
        <p:spPr>
          <a:xfrm>
            <a:off x="2819520" y="3429000"/>
            <a:ext cx="2057400" cy="1447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lavatory.jpg"/>
          <p:cNvPicPr/>
          <p:nvPr/>
        </p:nvPicPr>
        <p:blipFill>
          <a:blip r:embed="rId7"/>
          <a:stretch/>
        </p:blipFill>
        <p:spPr>
          <a:xfrm>
            <a:off x="3733920" y="1066680"/>
            <a:ext cx="1238040" cy="885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aviary.jpg"/>
          <p:cNvPicPr/>
          <p:nvPr/>
        </p:nvPicPr>
        <p:blipFill>
          <a:blip r:embed="rId8"/>
          <a:stretch/>
        </p:blipFill>
        <p:spPr>
          <a:xfrm>
            <a:off x="7543800" y="91440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ster, Astr, Astr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tar(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steroi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str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strolog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stronau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stronom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sterisk *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4" name="Picture 7" descr="astrology.jpg"/>
          <p:cNvPicPr/>
          <p:nvPr/>
        </p:nvPicPr>
        <p:blipFill>
          <a:blip r:embed="rId2"/>
          <a:stretch/>
        </p:blipFill>
        <p:spPr>
          <a:xfrm>
            <a:off x="7467480" y="51055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asteroid.jpg"/>
          <p:cNvPicPr/>
          <p:nvPr/>
        </p:nvPicPr>
        <p:blipFill>
          <a:blip r:embed="rId3"/>
          <a:stretch/>
        </p:blipFill>
        <p:spPr>
          <a:xfrm>
            <a:off x="3581280" y="4800600"/>
            <a:ext cx="1981440" cy="1905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astronaut.jpg"/>
          <p:cNvPicPr/>
          <p:nvPr/>
        </p:nvPicPr>
        <p:blipFill>
          <a:blip r:embed="rId4"/>
          <a:stretch/>
        </p:blipFill>
        <p:spPr>
          <a:xfrm>
            <a:off x="990720" y="2514600"/>
            <a:ext cx="1809720" cy="1523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astronomy.jpg"/>
          <p:cNvPicPr/>
          <p:nvPr/>
        </p:nvPicPr>
        <p:blipFill>
          <a:blip r:embed="rId5"/>
          <a:stretch/>
        </p:blipFill>
        <p:spPr>
          <a:xfrm>
            <a:off x="7391520" y="152280"/>
            <a:ext cx="1562040" cy="190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1" descr="stars.jpg"/>
          <p:cNvPicPr/>
          <p:nvPr/>
        </p:nvPicPr>
        <p:blipFill>
          <a:blip r:embed="rId6"/>
          <a:stretch/>
        </p:blipFill>
        <p:spPr>
          <a:xfrm>
            <a:off x="228600" y="4724280"/>
            <a:ext cx="1905120" cy="1791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2" descr="starss.jpg"/>
          <p:cNvPicPr/>
          <p:nvPr/>
        </p:nvPicPr>
        <p:blipFill>
          <a:blip r:embed="rId7"/>
          <a:stretch/>
        </p:blipFill>
        <p:spPr>
          <a:xfrm>
            <a:off x="3200400" y="2438280"/>
            <a:ext cx="1704960" cy="182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ud-, Audio-, Audit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14040" y="1600200"/>
            <a:ext cx="3814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 hea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190760" y="1599840"/>
            <a:ext cx="3733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dible (di= day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dien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dio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diovisual (visu= to see; to look; viewing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di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ditoriu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3" name="Picture 6" descr="audiometer.jpg"/>
          <p:cNvPicPr/>
          <p:nvPr/>
        </p:nvPicPr>
        <p:blipFill>
          <a:blip r:embed="rId2"/>
          <a:stretch/>
        </p:blipFill>
        <p:spPr>
          <a:xfrm>
            <a:off x="6629400" y="2819520"/>
            <a:ext cx="2514600" cy="228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audience.jpg"/>
          <p:cNvPicPr/>
          <p:nvPr/>
        </p:nvPicPr>
        <p:blipFill>
          <a:blip r:embed="rId3"/>
          <a:stretch/>
        </p:blipFill>
        <p:spPr>
          <a:xfrm>
            <a:off x="2743200" y="5029200"/>
            <a:ext cx="2819520" cy="1638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auditorium.jpg"/>
          <p:cNvPicPr/>
          <p:nvPr/>
        </p:nvPicPr>
        <p:blipFill>
          <a:blip r:embed="rId4"/>
          <a:stretch/>
        </p:blipFill>
        <p:spPr>
          <a:xfrm>
            <a:off x="7238880" y="304920"/>
            <a:ext cx="1609920" cy="1743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9-14T19:47:53Z</dcterms:modified>
  <cp:revision>19</cp:revision>
  <dc:subject/>
  <dc:title>Roots List #1</dc:title>
</cp:coreProperties>
</file>